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3C21-CC70-402A-BE3C-6DD6AAA862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alife.com.u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ravostok.ru/upload/information_system_1/3/0/2/item_3022/information_items_302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F896-B803-4590-804E-4AE8070A72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C4C5-CBBD-484E-937A-A61430BD3F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ivejournal.ru/static/files/photos/zoom/788_10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DF91-24AD-49F1-9A2B-50B2255439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7F3-FE7D-4835-A433-0C9173FA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A71-F888-4460-AB8D-30CB213C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4AD-08A3-44EE-95CE-F502BEFF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E27-CC5E-4E61-9C6C-A86A1D1A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5FA2-CA45-4B92-9E72-8ED63FC3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2DD2-B061-45FC-9F7C-2A160E93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18E8-433A-4B67-8C15-EEFDAE58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6E10-3F07-4188-B087-E2597DC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C832-D230-48F3-AEE4-E15E8C01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7543-6346-4378-BAD0-253E887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130F-8719-468F-BE8A-D28F2AA7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647-7314-445E-9CC0-519944C2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1E91-CFB7-4FB4-8D01-4A8BF32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0540-73A9-4FEB-9A0C-067741B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21CC-A5B1-4D33-9816-1E07F93C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78AF-5CAF-4C0D-BA30-A861329B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937A-1C97-405B-B6A2-18861267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88A9-BD5A-467D-B3F4-813BBF21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231A-DB7C-49AE-98DC-8B302E6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83DC-393F-486D-9FBE-6F7F355A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30BF-E13E-4B73-80F4-3D047149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66F9-BCF3-418B-9426-02B41194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58A-6614-4990-909D-AB934FF6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78D6-3AD9-41FC-AB85-AACBA762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4D56-1C01-4E74-8597-2DDE58FE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CA83-A7DD-4894-8D05-D9A485A5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ADCE-BACA-4657-8998-4F648B26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C575-12A2-4231-B7BB-7EB4DB75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C632-344A-41DE-B194-2AA3DE39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7301-AB72-4B19-9CA3-BD607482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C45DA-583D-4BAB-8061-5618DCF8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3739-BCE9-4DC1-9694-4494A5A7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7EF1-ACC1-447C-8037-BB78794F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321-17BD-4E43-AB66-CDD9AFE1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1DE65-50A0-4B1A-8981-773B6D5A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E4242-020E-497A-8634-0D29A102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CEAE-30F9-43A3-B66E-7C282735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FA822-03DC-4727-B75E-6551627A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9BEDB-A269-41E2-9873-9A9888B1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979F-5510-43C3-8C8B-26D33BBA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9195-8E64-4511-893F-885EC19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1BE6-088A-460A-9A04-F02E4A74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E0B4E-E666-4F0E-8799-E16BC561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D2A-FB0C-4F4D-9B3B-AA4E56BD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D4E-5983-43E0-B064-E472EBFF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42A-7FF7-4748-A8F9-F30C0C5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602-33EB-4D25-8AE5-94F12A19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A89-EE69-4D7D-86AE-09CFE48A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F5D1-D840-4B51-8E38-F61B38F7F951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DFFC-E475-4FD0-AC68-089363A09D2C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29F6-8B54-4B7F-B576-AE602B6930EE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210E-2EDF-4B90-85CD-D355CD48BC81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7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771480" y="476280"/>
            <a:ext cx="7602480" cy="1712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539640" y="5578560"/>
            <a:ext cx="115272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5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413000"/>
            <a:ext cx="4035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МИЛОСТЫНЯ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ПОМОЩЬ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6520" y="731520"/>
            <a:ext cx="33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643280" y="1844640"/>
          <a:ext cx="3673800" cy="1368360"/>
        </p:xfrm>
        <a:graphic>
          <a:graphicData uri="http://schemas.openxmlformats.org/drawingml/2006/table">
            <a:tbl>
              <a:tblPr/>
              <a:tblGrid>
                <a:gridCol w="3673800"/>
              </a:tblGrid>
              <a:tr h="136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казание помощи, не вникая в пробл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284720" y="3573360"/>
          <a:ext cx="3887640" cy="207324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2073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ребует большей включённости в проблему,   которую пытается решить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300" name="Заголовок 2" descr=""/>
          <p:cNvPicPr/>
          <p:nvPr/>
        </p:nvPicPr>
        <p:blipFill>
          <a:blip r:embed="rId1"/>
          <a:stretch/>
        </p:blipFill>
        <p:spPr>
          <a:xfrm>
            <a:off x="804960" y="79200"/>
            <a:ext cx="758340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Непоседы - БЫТЬ ЧЕЛОВЕКОМ. Песня со смыслом..mp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3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1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ИТЧА О СТАКАНЕ МОЛОКА.до слез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7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http://festival.1september.ru/articles/512376/Image4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285840" y="383760"/>
            <a:ext cx="4786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ьте внимательными, вдруг кому-то нужна ваша помощь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дите, когда вас попросят, а помогите нуждающим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42920" y="1341000"/>
            <a:ext cx="68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. Составить представление о таком понятии как «МИЛОСЕРДИЕ»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.Научится анализировать поступки людей в разных жизненных ситуаци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.  Высказывать свою точку зрения, отстаивать собственное мнение, принимать чужо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-231840"/>
            <a:ext cx="80042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179280" y="171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rebuchet MS"/>
              </a:rPr>
              <a:t>МИЛ</a:t>
            </a:r>
            <a:r>
              <a:rPr b="1" lang="ru-RU" sz="60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1" lang="ru-RU" sz="6000" spc="-1" strike="noStrike">
                <a:solidFill>
                  <a:srgbClr val="c00000"/>
                </a:solidFill>
                <a:latin typeface="Trebuchet MS"/>
              </a:rPr>
              <a:t>СЕРД</a:t>
            </a:r>
            <a:r>
              <a:rPr b="1" lang="ru-RU" sz="6000" spc="-1" strike="noStrike">
                <a:solidFill>
                  <a:srgbClr val="000000"/>
                </a:solidFill>
                <a:latin typeface="Trebuchet MS"/>
              </a:rPr>
              <a:t>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719280" y="17002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ердц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alibri"/>
              </a:rPr>
              <a:t>милует любит жале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844560" y="354960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ИЛОСЕРД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737240" y="212580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ОРА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5964120" y="12938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6815160" y="38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6753240" y="496872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2192400" y="298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1039680" y="46832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4720" y="556272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6311880" y="27144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2282760" y="274464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276228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543040" y="1832040"/>
            <a:ext cx="15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4859280" y="3441600"/>
            <a:ext cx="16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6105600" y="5877000"/>
            <a:ext cx="22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Д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8"/>
          <p:cNvSpPr/>
          <p:nvPr/>
        </p:nvSpPr>
        <p:spPr>
          <a:xfrm>
            <a:off x="4043520" y="43909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ВНОДУШ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6858000" y="275436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3892680" y="51465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2925720" y="588492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9" descr=""/>
          <p:cNvPicPr/>
          <p:nvPr/>
        </p:nvPicPr>
        <p:blipFill>
          <a:blip r:embed="rId2"/>
          <a:stretch/>
        </p:blipFill>
        <p:spPr>
          <a:xfrm>
            <a:off x="1116000" y="0"/>
            <a:ext cx="6885000" cy="6885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 rot="4272600">
            <a:off x="2672280" y="11800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"/>
          <p:cNvSpPr/>
          <p:nvPr/>
        </p:nvSpPr>
        <p:spPr>
          <a:xfrm rot="4471200">
            <a:off x="4144320" y="5125320"/>
            <a:ext cx="25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"/>
          <p:cNvSpPr/>
          <p:nvPr/>
        </p:nvSpPr>
        <p:spPr>
          <a:xfrm rot="2527800">
            <a:off x="5257080" y="44438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5"/>
          <p:cNvSpPr/>
          <p:nvPr/>
        </p:nvSpPr>
        <p:spPr>
          <a:xfrm rot="17479800">
            <a:off x="3316680" y="518724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6"/>
          <p:cNvSpPr/>
          <p:nvPr/>
        </p:nvSpPr>
        <p:spPr>
          <a:xfrm rot="20047200">
            <a:off x="1512000" y="393228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7"/>
          <p:cNvSpPr/>
          <p:nvPr/>
        </p:nvSpPr>
        <p:spPr>
          <a:xfrm rot="2500800">
            <a:off x="1857600" y="177480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8"/>
          <p:cNvSpPr/>
          <p:nvPr/>
        </p:nvSpPr>
        <p:spPr>
          <a:xfrm rot="19146600">
            <a:off x="4950000" y="144504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9"/>
          <p:cNvSpPr/>
          <p:nvPr/>
        </p:nvSpPr>
        <p:spPr>
          <a:xfrm rot="718200">
            <a:off x="1587600" y="29509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0"/>
          <p:cNvSpPr/>
          <p:nvPr/>
        </p:nvSpPr>
        <p:spPr>
          <a:xfrm rot="19135800">
            <a:off x="2155320" y="4695480"/>
            <a:ext cx="24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1"/>
          <p:cNvSpPr/>
          <p:nvPr/>
        </p:nvSpPr>
        <p:spPr>
          <a:xfrm rot="1218600">
            <a:off x="5850360" y="34318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2"/>
          <p:cNvSpPr/>
          <p:nvPr/>
        </p:nvSpPr>
        <p:spPr>
          <a:xfrm rot="20458800">
            <a:off x="5733360" y="226368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 rot="17026200">
            <a:off x="3888000" y="111672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3645000" y="2522520"/>
            <a:ext cx="1852560" cy="1811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4"/>
          <a:stretch/>
        </p:blipFill>
        <p:spPr>
          <a:xfrm>
            <a:off x="36360" y="0"/>
            <a:ext cx="2936880" cy="2130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5"/>
          <a:stretch/>
        </p:blipFill>
        <p:spPr>
          <a:xfrm>
            <a:off x="6126120" y="3859200"/>
            <a:ext cx="3038400" cy="2940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45080" y="7315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Пальто_ История милосердия.mp4" descr=""/>
          <p:cNvPicPr/>
          <p:nvPr/>
        </p:nvPicPr>
        <p:blipFill>
          <a:blip r:embed="rId1"/>
          <a:stretch/>
        </p:blipFill>
        <p:spPr>
          <a:xfrm>
            <a:off x="-17640" y="54936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Эмпатия — не сочувствие, а понимание обстоятельств человека, даже если ты  сам никогда в них не был - ВОмске"/>
          <p:cNvPicPr/>
          <p:nvPr/>
        </p:nvPicPr>
        <p:blipFill>
          <a:blip r:embed="rId1"/>
          <a:stretch/>
        </p:blipFill>
        <p:spPr>
          <a:xfrm>
            <a:off x="2195640" y="2781360"/>
            <a:ext cx="6667200" cy="3600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725400" y="176040"/>
            <a:ext cx="7948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3"/>
          <p:cNvSpPr/>
          <p:nvPr/>
        </p:nvSpPr>
        <p:spPr>
          <a:xfrm>
            <a:off x="4737240" y="2125800"/>
            <a:ext cx="2674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5964120" y="1293840"/>
            <a:ext cx="284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2192400" y="298440"/>
            <a:ext cx="2133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6311880" y="271440"/>
            <a:ext cx="1836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2762280" y="112536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2543040" y="1832040"/>
            <a:ext cx="1503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Рисунок 8" descr="1576.jpg"/>
          <p:cNvPicPr/>
          <p:nvPr/>
        </p:nvPicPr>
        <p:blipFill>
          <a:blip r:embed="rId2"/>
          <a:stretch/>
        </p:blipFill>
        <p:spPr>
          <a:xfrm>
            <a:off x="179280" y="189000"/>
            <a:ext cx="4121280" cy="35272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-_xZdkZPpDE.jpg"/>
          <p:cNvPicPr/>
          <p:nvPr/>
        </p:nvPicPr>
        <p:blipFill>
          <a:blip r:embed="rId3"/>
          <a:stretch/>
        </p:blipFill>
        <p:spPr>
          <a:xfrm>
            <a:off x="179280" y="3645000"/>
            <a:ext cx="4148280" cy="3041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1" descr="miloserd500_1242722150.jpg"/>
          <p:cNvPicPr/>
          <p:nvPr/>
        </p:nvPicPr>
        <p:blipFill>
          <a:blip r:embed="rId4"/>
          <a:stretch/>
        </p:blipFill>
        <p:spPr>
          <a:xfrm>
            <a:off x="4500720" y="1071720"/>
            <a:ext cx="434484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3"/>
          <p:cNvSpPr/>
          <p:nvPr/>
        </p:nvSpPr>
        <p:spPr>
          <a:xfrm>
            <a:off x="4737240" y="2125800"/>
            <a:ext cx="2674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964120" y="1293840"/>
            <a:ext cx="284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2192400" y="298440"/>
            <a:ext cx="2133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6311880" y="271440"/>
            <a:ext cx="1836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2762280" y="112536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2543040" y="1832040"/>
            <a:ext cx="1503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8" descr="milostyna.jpg"/>
          <p:cNvPicPr/>
          <p:nvPr/>
        </p:nvPicPr>
        <p:blipFill>
          <a:blip r:embed="rId2"/>
          <a:stretch/>
        </p:blipFill>
        <p:spPr>
          <a:xfrm>
            <a:off x="1187280" y="1268280"/>
            <a:ext cx="4121280" cy="2643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1444811.jpg"/>
          <p:cNvPicPr/>
          <p:nvPr/>
        </p:nvPicPr>
        <p:blipFill>
          <a:blip r:embed="rId3"/>
          <a:stretch/>
        </p:blipFill>
        <p:spPr>
          <a:xfrm>
            <a:off x="4716360" y="2637000"/>
            <a:ext cx="4049640" cy="285732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13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1a08"/>
                </a:solidFill>
                <a:latin typeface="Calibri"/>
              </a:rPr>
              <a:t>Милосты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угольник 16"/>
          <p:cNvSpPr/>
          <p:nvPr/>
        </p:nvSpPr>
        <p:spPr>
          <a:xfrm>
            <a:off x="971640" y="5445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омощь друго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человеку из жалости к н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202</cp:lastModifiedBy>
  <dcterms:modified xsi:type="dcterms:W3CDTF">2024-02-16T10:04:38Z</dcterms:modified>
  <cp:revision>170</cp:revision>
  <dc:subject/>
  <dc:title>Презентация PowerPoint</dc:title>
</cp:coreProperties>
</file>